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F7D1-6570-42B6-915B-BA36E4C469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D4B-D617-4DD3-B23B-176F410D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DD0-5C24-4F51-BE92-099EE0E5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E76-353E-4529-AA84-35DDF326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3CB-7C4B-4AB7-B9B5-1FFEE850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C680-0932-4D18-BAB3-210CAF96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1EDF-45D0-4A1A-9763-991F9024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9437-72D6-4BB4-880D-F480ED01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7BB1-A6D1-40D0-BB7A-11132946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A5A2-E406-44E6-BFC0-6CCF0F87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6DF5-E703-4844-9291-C8E73074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9151-825E-463F-948E-53A8095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443-F8CC-490A-8863-402F509D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4619-94B9-42AF-864C-A810983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A69A-8E8A-4E3A-A954-A55785A6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F44C-3B5C-4F07-BBF6-D202AD0C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7EF1-E6C5-4CAD-A2F3-209B5CFD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572B-AF49-4EDC-A0F8-D5CD6CC3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CB1-C308-4B2F-8438-4C8242F7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B0F-7082-45E2-A678-0DE93DB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F2A-DC98-4F28-9734-D68B6671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E78-CB58-4F4D-87A8-CC8D5200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8EF-4688-4BEE-A064-303D5D7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872-EFF2-4B11-BBC9-62AFF1F7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E93-82B2-4F01-B4A7-832BC277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BB0E-2A86-41A5-8E8E-8FCEBC80E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2D7F-AE78-4AB8-A4DA-2B9C8CF4E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259092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p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80880" y="182880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82880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609480" y="1676520"/>
            <a:ext cx="7696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7696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aulic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676520"/>
            <a:ext cx="7696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/Cor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121932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river (velocity &amp; load)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river (transport)"/>
          <p:cNvPicPr/>
          <p:nvPr/>
        </p:nvPicPr>
        <p:blipFill>
          <a:blip r:embed="rId1"/>
          <a:stretch/>
        </p:blipFill>
        <p:spPr>
          <a:xfrm>
            <a:off x="990720" y="251460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25909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tation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ltim: by leaps/ju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2:44:59Z</dcterms:created>
  <dc:creator>Melvin Chng</dc:creator>
  <dc:description/>
  <dc:language>en-US</dc:language>
  <cp:lastModifiedBy>RomaK</cp:lastModifiedBy>
  <dcterms:modified xsi:type="dcterms:W3CDTF">2015-09-04T09:45:48Z</dcterms:modified>
  <cp:revision>7</cp:revision>
  <dc:subject/>
  <dc:title>The Work of Rivers</dc:title>
</cp:coreProperties>
</file>